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E889-F49C-491B-A87B-A904D23C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797C-2F97-46D7-90C2-B1A6F996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4EEC-C640-4D5A-8F0F-598F46E6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BE8C-699B-46BA-A951-124518EA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8633-019C-47AC-B37D-2172FE66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CCF1-087B-42C9-B2B5-99DB1A0C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298F-4313-4F81-B911-AF58A65B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34F2-E884-49A9-B89E-462FB5E7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FA38-15DD-4014-BC78-9E101B63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4175-04AF-4804-A94B-1C309A9D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8195-8ACB-4151-8EDB-6FDFF8EF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3961-0F35-4F9D-AD5A-4BAE8595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A4C2-4F3E-4514-96AE-0149D51CB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10800000">
            <a:off x="685800" y="3045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R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357192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34640" y="1447920"/>
            <a:ext cx="54766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tead of say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crocodile did not attac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til he reached the sho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might be more dramatic and s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until he reached the sh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35812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d the crocodile att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886200" y="43480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2362320" cy="209556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7620120" y="57150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1178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566" h="21600">
                <a:moveTo>
                  <a:pt x="1178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566" h="21600">
                <a:moveTo>
                  <a:pt x="9207" y="8224"/>
                </a:moveTo>
                <a:lnTo>
                  <a:pt x="13071" y="8224"/>
                </a:lnTo>
                <a:lnTo>
                  <a:pt x="13071" y="15221"/>
                </a:lnTo>
                <a:lnTo>
                  <a:pt x="14359" y="15221"/>
                </a:lnTo>
                <a:lnTo>
                  <a:pt x="14359" y="16144"/>
                </a:lnTo>
                <a:lnTo>
                  <a:pt x="9207" y="16144"/>
                </a:lnTo>
                <a:lnTo>
                  <a:pt x="9207" y="15221"/>
                </a:lnTo>
                <a:lnTo>
                  <a:pt x="10495" y="15221"/>
                </a:lnTo>
                <a:lnTo>
                  <a:pt x="10495" y="9129"/>
                </a:lnTo>
                <a:lnTo>
                  <a:pt x="9207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600200" y="914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could also s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17524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nly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7960" y="3124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 reached the sh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43434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id the crocodile att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3048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nly af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990720"/>
            <a:ext cx="624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at the Inversions Index overleaf and click on what you w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rsions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32400" y="1466280"/>
            <a:ext cx="33163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fter negative adverbia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ever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owhere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ot for one minute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ot since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ot until 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ever again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arely  …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fter certain 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ntence patter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o sooner ….. than …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Hardly ….. when …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Barely….. when …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carcely….. when …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ittle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4479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expressions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’ and ‘no’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ly after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ly when 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t only … , but … also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t no time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der no circumstances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 no account 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conditionals inst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‘if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uld ….. , ….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re ….. , ….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d ….. , ….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3962520" y="15238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3962520" y="39625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7467480" y="1523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67480" y="4038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47242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51055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29400" y="54864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fter negative adverbial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ver had he seen such a small eleph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here will you find better pael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 until I got home did I start to feel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rely do you taste such delicious f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6858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3040" y="838080"/>
            <a:ext cx="561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 what happens to the verbs in the following exam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ransforming the following sente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We have never done inversion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before …………………………. inversion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hey had not come across them anyw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here ……………………………… them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She didn’t meet it until she reached Level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until …………………………………… meet i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 You rarely encounter such a thought-provoking stru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rely ……………………………… such a thought-provoking stru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certain established sentence pattern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ooner had I entered the room than she le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rdly had he finished eating when he fell asle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rely had they sat down when the chair collap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rcely had he left the saddle when they shot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ttle did I suspect his true inten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6858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46720" y="838080"/>
            <a:ext cx="561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 what happens to the verbs in the following exam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try these for siz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s soon as the teacher arrived, they all stood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ooner ………………………… they all stood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he moment she sat down, the telephone ra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rcely …………………… the telephone ra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Their mother knew little of their weekend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tle……………….… of their weekend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1581120" cy="1581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58000" y="600120"/>
            <a:ext cx="2286000" cy="1533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477200" y="4343400"/>
            <a:ext cx="166680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expressions with ‘only’ and ‘no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only did he solve mysteries, but he also played the viol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when I got home did I realise my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no time did I ever feel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 no circumstances should you open that d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after he had left did she begin to laug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 no account are you to tell your fa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6858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990720"/>
            <a:ext cx="56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 what happens to the verbs in the following exam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60948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r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50292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often we speak English this way u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4905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43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try these for siz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 Holmes didn’t let on about his hobby at any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no time  …………………… let on about his hobb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You shouldn’t open that box on any acc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no account………………………. that b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  You must not enter the water again un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y circum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 no circumstances 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………………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132680" y="609480"/>
            <a:ext cx="1859040" cy="190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28600" y="2897280"/>
            <a:ext cx="2038320" cy="1522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477120" y="4724280"/>
            <a:ext cx="24001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nditionals instead of ‘if’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you require further information, please do not hesitate to contact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re you to find a snake in your bed, what would you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d I known you were coming, I would have baked a ca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3040" y="762120"/>
            <a:ext cx="561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 what happens to the verbs in the following exam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23623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42670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7150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first condi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800600"/>
            <a:ext cx="769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Should you requi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urther informa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ease do not hesitate to contact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98280" y="1143000"/>
            <a:ext cx="59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ok what can happen to the verbs in the following exam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167652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you requi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urther information, please do not hesitate to contact u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335268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you should requi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urther information, please do not hesitate to contact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2209680"/>
            <a:ext cx="152280" cy="1371600"/>
          </a:xfrm>
          <a:prstGeom prst="downArrow">
            <a:avLst>
              <a:gd name="adj1" fmla="val 50000"/>
              <a:gd name="adj2" fmla="val 2251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2153400">
            <a:off x="2209680" y="3733560"/>
            <a:ext cx="152640" cy="1447560"/>
          </a:xfrm>
          <a:prstGeom prst="downArrow">
            <a:avLst>
              <a:gd name="adj1" fmla="val 50000"/>
              <a:gd name="adj2" fmla="val 2370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9573200">
            <a:off x="2286000" y="3733560"/>
            <a:ext cx="152280" cy="1447560"/>
          </a:xfrm>
          <a:prstGeom prst="downArrow">
            <a:avLst>
              <a:gd name="adj1" fmla="val 50000"/>
              <a:gd name="adj2" fmla="val 2376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9543800">
            <a:off x="3200040" y="2057400"/>
            <a:ext cx="152280" cy="1600200"/>
          </a:xfrm>
          <a:prstGeom prst="downArrow">
            <a:avLst>
              <a:gd name="adj1" fmla="val 50000"/>
              <a:gd name="adj2" fmla="val 2627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162920" y="1676520"/>
            <a:ext cx="132372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econd conditionals 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51811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ere you to co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cross a snake, what would you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6858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3040" y="1066680"/>
            <a:ext cx="561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 what happens to the verbs in the following exam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429000" y="1523880"/>
            <a:ext cx="1962000" cy="1471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33520" y="31240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you cam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cross a snake, what would you do?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40384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you were to com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cross a snake, what would you do?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35812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3327600">
            <a:off x="1245960" y="4266720"/>
            <a:ext cx="152280" cy="1219320"/>
          </a:xfrm>
          <a:prstGeom prst="downArrow">
            <a:avLst>
              <a:gd name="adj1" fmla="val 50000"/>
              <a:gd name="adj2" fmla="val 2001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9437600">
            <a:off x="1294920" y="4419360"/>
            <a:ext cx="152640" cy="990360"/>
          </a:xfrm>
          <a:prstGeom prst="downArrow">
            <a:avLst>
              <a:gd name="adj1" fmla="val 50000"/>
              <a:gd name="adj2" fmla="val 1622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9905000">
            <a:off x="2057040" y="3504960"/>
            <a:ext cx="152280" cy="761760"/>
          </a:xfrm>
          <a:prstGeom prst="downArrow">
            <a:avLst>
              <a:gd name="adj1" fmla="val 50000"/>
              <a:gd name="adj2" fmla="val 125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8781200">
            <a:off x="2280960" y="3353040"/>
            <a:ext cx="152640" cy="1066680"/>
          </a:xfrm>
          <a:prstGeom prst="downArrow">
            <a:avLst>
              <a:gd name="adj1" fmla="val 50000"/>
              <a:gd name="adj2" fmla="val 1747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third conditionals 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49528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ad I known you were coming, I would have baked a c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3040" y="1066680"/>
            <a:ext cx="561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 what happens to the verbs in the following exam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581280" y="1562040"/>
            <a:ext cx="1771920" cy="1714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37480" y="3581280"/>
            <a:ext cx="80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 I had known you were coming, I would have baked a c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096800">
            <a:off x="990360" y="3962520"/>
            <a:ext cx="152280" cy="1066680"/>
          </a:xfrm>
          <a:prstGeom prst="downArrow">
            <a:avLst>
              <a:gd name="adj1" fmla="val 50000"/>
              <a:gd name="adj2" fmla="val 1751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20706000">
            <a:off x="1066320" y="3962160"/>
            <a:ext cx="152640" cy="1066680"/>
          </a:xfrm>
          <a:prstGeom prst="downArrow">
            <a:avLst>
              <a:gd name="adj1" fmla="val 50000"/>
              <a:gd name="adj2" fmla="val 1747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267600" y="228600"/>
            <a:ext cx="2876400" cy="2163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84440" y="2571840"/>
            <a:ext cx="7576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 Holmes didn’t let on about his hobby at any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no time  …………………… let on about his hobb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You shouldn’t open that box on any acc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no account………………………. that b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  You must not enter the water again un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y circum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 no circumstances 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………………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asionally, however, we might feel the need to invert some of the sentence order for eff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instead of say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had never seen such a small eleph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ight choose to be more dramatic and s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038480" y="1371600"/>
            <a:ext cx="1371600" cy="1476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76720" y="2490840"/>
            <a:ext cx="457200" cy="358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4400" y="40384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ver had he seen such a small eleph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say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soon as Holmes lit his pipe, a strange event occurr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ight be more mysterious and s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38088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 sooner had Holmes lit his pip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038480" y="1066680"/>
            <a:ext cx="1067040" cy="1305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971800" y="5715000"/>
            <a:ext cx="914400" cy="838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95280" y="228600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n a strange event occur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886200" y="3048120"/>
            <a:ext cx="2612880" cy="350496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7620120" y="571500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1187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752" h="21600">
                <a:moveTo>
                  <a:pt x="1187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752" h="21600">
                <a:moveTo>
                  <a:pt x="9300" y="8224"/>
                </a:moveTo>
                <a:lnTo>
                  <a:pt x="13164" y="8224"/>
                </a:lnTo>
                <a:lnTo>
                  <a:pt x="13164" y="15221"/>
                </a:lnTo>
                <a:lnTo>
                  <a:pt x="14452" y="15221"/>
                </a:lnTo>
                <a:lnTo>
                  <a:pt x="14452" y="16144"/>
                </a:lnTo>
                <a:lnTo>
                  <a:pt x="9300" y="16144"/>
                </a:lnTo>
                <a:lnTo>
                  <a:pt x="9300" y="15221"/>
                </a:lnTo>
                <a:lnTo>
                  <a:pt x="10588" y="15221"/>
                </a:lnTo>
                <a:lnTo>
                  <a:pt x="10588" y="9129"/>
                </a:lnTo>
                <a:lnTo>
                  <a:pt x="9300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00200" y="914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could also s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752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ar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438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ar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7960" y="3124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30481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ad Holmes lit his pi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3434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43434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 strange event occur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29718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carc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441440" y="1447920"/>
            <a:ext cx="6462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say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lmes not only solved mysterie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 he also played the violi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for a change we might s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867280" y="2666880"/>
            <a:ext cx="2819520" cy="4057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905120" cy="2971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14600" y="12193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 only did he solve mysteri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42670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 he also played the vio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14:12:31Z</dcterms:created>
  <dc:creator>Michael D Hardinge</dc:creator>
  <dc:description/>
  <dc:language>en-US</dc:language>
  <cp:lastModifiedBy>GTI Build</cp:lastModifiedBy>
  <dcterms:modified xsi:type="dcterms:W3CDTF">2003-03-28T10:44:39Z</dcterms:modified>
  <cp:revision>21</cp:revision>
  <dc:subject/>
  <dc:title>Inversions</dc:title>
</cp:coreProperties>
</file>